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31.png" ContentType="image/png"/>
  <Override PartName="/ppt/media/image24.jpeg" ContentType="image/jpeg"/>
  <Override PartName="/ppt/media/image3.jpeg" ContentType="image/jpeg"/>
  <Override PartName="/ppt/media/image2.jpeg" ContentType="image/jpeg"/>
  <Override PartName="/ppt/media/image36.jpeg" ContentType="image/jpeg"/>
  <Override PartName="/ppt/media/image25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28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43.jpeg" ContentType="image/jpeg"/>
  <Override PartName="/ppt/media/image34.jpeg" ContentType="image/jpeg"/>
  <Override PartName="/ppt/media/image37.png" ContentType="image/png"/>
  <Override PartName="/ppt/media/image45.jpeg" ContentType="image/jpeg"/>
  <Override PartName="/ppt/media/image8.jpeg" ContentType="image/jpeg"/>
  <Override PartName="/ppt/media/image39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media/image46.jpeg" ContentType="image/jpeg"/>
  <Override PartName="/ppt/media/image30.jpeg" ContentType="image/jpeg"/>
  <Override PartName="/ppt/media/image47.jpeg" ContentType="image/jpeg"/>
  <Override PartName="/ppt/media/image12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42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7A456-627A-4842-94B4-2CE219491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200A4-AFCB-4FD6-AA75-2D0867CB1FF6}" type="slidenum">
              <a:rPr b="0" lang="en-US" sz="1200" spc="-1" strike="noStrike">
                <a:solidFill>
                  <a:srgbClr val="000000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365A5-22CB-42BA-B424-A6417070ACAE}" type="slidenum">
              <a:rPr b="0" lang="en-US" sz="1200" spc="-1" strike="noStrike">
                <a:solidFill>
                  <a:srgbClr val="000000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1026E-2386-4251-97AC-7BE3E11B18CD}" type="slidenum">
              <a:rPr b="0" lang="en-US" sz="1200" spc="-1" strike="noStrike">
                <a:solidFill>
                  <a:srgbClr val="000000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15153-062D-47DC-825D-97232A9E9A28}" type="slidenum">
              <a:rPr b="0" lang="en-US" sz="1200" spc="-1" strike="noStrike">
                <a:solidFill>
                  <a:srgbClr val="000000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F21DB-1A4D-4788-ABA0-D3025F676844}" type="slidenum">
              <a:rPr b="0" lang="en-US" sz="1200" spc="-1" strike="noStrike">
                <a:solidFill>
                  <a:srgbClr val="000000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A2E8A-0518-4F94-8278-BA8107AD03FF}" type="slidenum">
              <a:rPr b="0" lang="en-US" sz="1200" spc="-1" strike="noStrike">
                <a:solidFill>
                  <a:srgbClr val="000000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6CC45-BF1A-49D6-B113-65311570FF33}" type="slidenum">
              <a:rPr b="0" lang="en-US" sz="1200" spc="-1" strike="noStrike">
                <a:solidFill>
                  <a:srgbClr val="000000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FF018-7E82-428C-B9F4-4DE084AD4334}" type="slidenum">
              <a:rPr b="0" lang="en-US" sz="1200" spc="-1" strike="noStrike">
                <a:solidFill>
                  <a:srgbClr val="000000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EF4FD-C719-4051-926C-FA121DFF1C44}" type="slidenum">
              <a:rPr b="0" lang="en-US" sz="1200" spc="-1" strike="noStrike">
                <a:solidFill>
                  <a:srgbClr val="000000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5AA2A-2694-46E8-8C54-1B1C45716F59}" type="slidenum">
              <a:rPr b="0" lang="en-US" sz="1200" spc="-1" strike="noStrike">
                <a:solidFill>
                  <a:srgbClr val="000000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B6296-08A5-49AB-A52F-1C108DDD0CCE}" type="slidenum">
              <a:rPr b="0" lang="en-US" sz="1200" spc="-1" strike="noStrike">
                <a:solidFill>
                  <a:srgbClr val="000000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B20FF-3615-4FF9-91AE-00465DC885AB}" type="slidenum">
              <a:rPr b="0" lang="en-US" sz="1200" spc="-1" strike="noStrike">
                <a:solidFill>
                  <a:srgbClr val="000000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8EA85-B8B6-4A42-BC2B-59536A25296C}" type="slidenum">
              <a:rPr b="0" lang="en-US" sz="1200" spc="-1" strike="noStrike">
                <a:solidFill>
                  <a:srgbClr val="000000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9A80E-1AAC-4CDF-AAF5-0C8B3A8AD3C7}" type="slidenum">
              <a:rPr b="0" lang="en-US" sz="1200" spc="-1" strike="noStrike">
                <a:solidFill>
                  <a:srgbClr val="000000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DD969-1496-4E19-8CB2-781266157370}" type="slidenum">
              <a:rPr b="0" lang="en-US" sz="1200" spc="-1" strike="noStrike">
                <a:solidFill>
                  <a:srgbClr val="000000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BEDA7-4587-4359-BA92-D02437573DFD}" type="slidenum">
              <a:rPr b="0" lang="en-US" sz="1200" spc="-1" strike="noStrike">
                <a:solidFill>
                  <a:srgbClr val="000000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E52A4-0FB4-45F6-AD50-A3BBD3EAECF8}" type="slidenum">
              <a:rPr b="0" lang="en-US" sz="1200" spc="-1" strike="noStrike">
                <a:solidFill>
                  <a:srgbClr val="000000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0F619-83F8-438C-9653-2907E41A737A}" type="slidenum">
              <a:rPr b="0" lang="en-US" sz="1200" spc="-1" strike="noStrike">
                <a:solidFill>
                  <a:srgbClr val="000000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4B44B-B465-464E-9E96-FE1008943FB8}" type="slidenum">
              <a:rPr b="0" lang="en-US" sz="1200" spc="-1" strike="noStrike">
                <a:solidFill>
                  <a:srgbClr val="000000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2B073-380D-4F97-BD38-CC74E14E38C7}" type="slidenum">
              <a:rPr b="0" lang="en-US" sz="1200" spc="-1" strike="noStrike">
                <a:solidFill>
                  <a:srgbClr val="000000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4BE08-0E90-4EFB-BB19-77A36FDF44AF}" type="slidenum">
              <a:rPr b="0" lang="en-US" sz="1200" spc="-1" strike="noStrike">
                <a:solidFill>
                  <a:srgbClr val="000000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E7848-B058-4EB0-A2B9-A7905AE41200}" type="slidenum">
              <a:rPr b="0" lang="en-US" sz="1200" spc="-1" strike="noStrike">
                <a:solidFill>
                  <a:srgbClr val="000000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35209-F171-40B6-99F3-5DDFE2DE394F}" type="slidenum">
              <a:rPr b="0" lang="en-US" sz="1200" spc="-1" strike="noStrike">
                <a:solidFill>
                  <a:srgbClr val="000000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ADBB4-870F-4845-AAD2-DB75DFAECEC3}" type="slidenum">
              <a:rPr b="0" lang="en-US" sz="1200" spc="-1" strike="noStrike">
                <a:solidFill>
                  <a:srgbClr val="000000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F0DB-586B-4C3A-B9CF-0B81AD255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E5B6-A0E5-41D4-868C-10FBC8193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EAB5-D5B1-4ED0-B0C1-60ACA6072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0FF5-1960-475E-A89C-A49C499D7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2A56-6E4E-4FE1-B666-364A364FB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20D3-F855-4C12-8233-EEE83ED05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9725-C1C9-4178-B632-9A668C126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2EFA-F204-47D6-ADA2-58FD56879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0B15-792D-44C4-956A-F00717EFB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7600-4A4D-4E04-B41D-EF17827AE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47C5-D0BB-4D05-9E76-FDEFD4D0B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50E8-3EF0-484A-8013-CE032E3B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3BA33-DB2A-4D1C-840F-11B6C867C3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5/50/Munchen1.jpg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8/85/IJA_troops_enter_Mukden.jpg" TargetMode="External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alifornian FB"/>
              </a:rPr>
              <a:t>Ch. 27.1:  The Diplomacy of the New Era</a:t>
            </a:r>
            <a:br>
              <a:rPr sz="3400"/>
            </a:br>
            <a:r>
              <a:rPr b="1" lang="en-US" sz="3400" spc="-1" strike="noStrike" u="sng">
                <a:solidFill>
                  <a:srgbClr val="ffffff"/>
                </a:solidFill>
                <a:uFillTx/>
                <a:latin typeface="Footlight MT Light"/>
              </a:rPr>
              <a:t>Post-WWI Themes/Trends…</a:t>
            </a:r>
            <a:br>
              <a:rPr sz="4000"/>
            </a:br>
            <a:br>
              <a:rPr sz="40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410080" y="2971800"/>
            <a:ext cx="2962440" cy="37339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438280" y="1447920"/>
            <a:ext cx="480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Footlight MT Light"/>
              </a:rPr>
              <a:t>- Pacifism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Footlight MT Light"/>
              </a:rPr>
              <a:t>- Anger/Resentment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Footlight MT Light"/>
              </a:rPr>
              <a:t>- Economic Problems (1919-1920 + Great Depres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914400" y="2971800"/>
            <a:ext cx="36957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Footlight MT Light"/>
              </a:rPr>
              <a:t>Ch. 27.2:  Isolationism and Internationalism</a:t>
            </a: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Footlight MT Light"/>
              </a:rPr>
              <a:t>Axis Aggress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ootlight MT Light"/>
              </a:rPr>
              <a:t>Aggressi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Germany:  Rhineland (1936), Austria (</a:t>
            </a:r>
            <a:r>
              <a:rPr b="0" i="1" lang="en-US" sz="2200" spc="-1" strike="noStrike">
                <a:solidFill>
                  <a:srgbClr val="000000"/>
                </a:solidFill>
                <a:latin typeface="Footlight MT Light"/>
              </a:rPr>
              <a:t>Anschluss</a:t>
            </a: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) (1938), Sudetenland (1938), Czechoslovakia (1938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Footlight MT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Then Poland on 9/1/39 = WWII Beg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Italy:  Ethiopia (1935), Albania (1939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Japan:  Manchuria (1931), China (1937), </a:t>
            </a:r>
            <a:r>
              <a:rPr b="0" i="1" lang="en-US" sz="2200" spc="-1" strike="noStrike">
                <a:solidFill>
                  <a:srgbClr val="000000"/>
                </a:solidFill>
                <a:latin typeface="Footlight MT Light"/>
              </a:rPr>
              <a:t>Panay </a:t>
            </a: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(1937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map  Axis Aggression in Europe  World War Two  WW II"/>
          <p:cNvPicPr/>
          <p:nvPr/>
        </p:nvPicPr>
        <p:blipFill>
          <a:blip r:embed="rId1"/>
          <a:stretch/>
        </p:blipFill>
        <p:spPr>
          <a:xfrm>
            <a:off x="6095880" y="3048120"/>
            <a:ext cx="2570400" cy="3600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514600" y="4267080"/>
            <a:ext cx="3471840" cy="24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Footlight MT Light"/>
              </a:rPr>
              <a:t>Ch. 27.2:  Isolationism and Internationalism</a:t>
            </a: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Footlight MT Light"/>
              </a:rPr>
              <a:t>Appeasemen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ootlight MT Light"/>
              </a:rPr>
              <a:t>Munich Co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Meeting between Hitler, Chamberlain, Daladier, Mussolini in 9/1938 in Munich, Germ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Hitler got to keep everything he’s already taken (R.A.S.), but promised not to take anything else (e.g. Czechoslovaki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553080" y="1295280"/>
            <a:ext cx="2140200" cy="26434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410080" y="4038480"/>
            <a:ext cx="330048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alifornian FB"/>
              </a:rPr>
              <a:t>Ch. 27.3:  From Neutrality to Intervention</a:t>
            </a: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Californian FB"/>
              </a:rPr>
              <a:t>Nazi-Soviet Pac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58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ootlight MT Light"/>
              </a:rPr>
              <a:t>Nazi-Soviet P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Agreement between Hitler Sta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Footlight MT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non-aggression” for 10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Footlight MT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Split up Poland/Eastern Europe between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Footlight MT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038480" y="1828800"/>
            <a:ext cx="4800600" cy="37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alifornian FB"/>
              </a:rPr>
              <a:t>Ch. 27.3:  From Neutrality to Intervention</a:t>
            </a: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Californian FB"/>
              </a:rPr>
              <a:t>Nazi-Soviet Pac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4724640" cy="34322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334120" y="1981080"/>
            <a:ext cx="349560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Anschluss_tears"/>
          <p:cNvPicPr/>
          <p:nvPr/>
        </p:nvPicPr>
        <p:blipFill>
          <a:blip r:embed="rId1"/>
          <a:stretch/>
        </p:blipFill>
        <p:spPr>
          <a:xfrm>
            <a:off x="1447920" y="0"/>
            <a:ext cx="531648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WordArt 6"/>
          <p:cNvSpPr txBox="1"/>
          <p:nvPr/>
        </p:nvSpPr>
        <p:spPr>
          <a:xfrm>
            <a:off x="1219320" y="3124080"/>
            <a:ext cx="441936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The Anschlus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buildup-to-world-war-2-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kn6j"/>
          <p:cNvPicPr/>
          <p:nvPr/>
        </p:nvPicPr>
        <p:blipFill>
          <a:blip r:embed="rId1"/>
          <a:stretch/>
        </p:blipFill>
        <p:spPr>
          <a:xfrm>
            <a:off x="1981080" y="0"/>
            <a:ext cx="5738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he05n10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austri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Partition_of_Czechoslovakia_%281938%29"/>
          <p:cNvPicPr/>
          <p:nvPr/>
        </p:nvPicPr>
        <p:blipFill>
          <a:blip r:embed="rId1"/>
          <a:stretch/>
        </p:blipFill>
        <p:spPr>
          <a:xfrm>
            <a:off x="0" y="0"/>
            <a:ext cx="9144000" cy="68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alifornian FB"/>
              </a:rPr>
              <a:t>Ch. 27.1:  The Diplomacy of the New Era</a:t>
            </a: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Californian FB"/>
              </a:rPr>
              <a:t>Pacifism/Disarmamen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1911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550"/>
              </a:spcBef>
              <a:buClr>
                <a:srgbClr val="000099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Footlight MT Light"/>
              </a:rPr>
              <a:t>Washington Naval (</a:t>
            </a:r>
            <a:r>
              <a:rPr b="1" i="1" lang="en-US" sz="2200" spc="-1" strike="noStrike">
                <a:solidFill>
                  <a:srgbClr val="000099"/>
                </a:solidFill>
                <a:latin typeface="Footlight MT Light"/>
              </a:rPr>
              <a:t>Disarmament</a:t>
            </a:r>
            <a:r>
              <a:rPr b="1" lang="en-US" sz="2200" spc="-1" strike="noStrike">
                <a:solidFill>
                  <a:srgbClr val="000099"/>
                </a:solidFill>
                <a:latin typeface="Footlight MT Light"/>
              </a:rPr>
              <a:t>) Conference (192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5-Power Treaty:  U.S. (5), G.B. (5), Japan (3), France (1.67), Italy (1.6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4-Power Treaty:  U.S., France, G.B., Japan agreed to respect each other’s territory in the Pacifi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Nine-Power Treaty:  All agreed to respect Open Door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495680" y="1600200"/>
            <a:ext cx="434340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highres_30017530%20copy"/>
          <p:cNvPicPr/>
          <p:nvPr/>
        </p:nvPicPr>
        <p:blipFill>
          <a:blip r:embed="rId1"/>
          <a:stretch/>
        </p:blipFill>
        <p:spPr>
          <a:xfrm>
            <a:off x="0" y="0"/>
            <a:ext cx="967752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WordArt 6"/>
          <p:cNvSpPr txBox="1"/>
          <p:nvPr/>
        </p:nvSpPr>
        <p:spPr>
          <a:xfrm rot="649200">
            <a:off x="561960" y="3522600"/>
            <a:ext cx="8229600" cy="382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Munich - Sept. '3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6" descr="chamberlain-hitler"/>
          <p:cNvPicPr/>
          <p:nvPr/>
        </p:nvPicPr>
        <p:blipFill>
          <a:blip r:embed="rId1"/>
          <a:stretch/>
        </p:blipFill>
        <p:spPr>
          <a:xfrm>
            <a:off x="0" y="0"/>
            <a:ext cx="4386240" cy="5638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0" name="Picture 8" descr="neville_chamberlain_and_adolf_hitler_peace_in_our_time"/>
          <p:cNvPicPr/>
          <p:nvPr/>
        </p:nvPicPr>
        <p:blipFill>
          <a:blip r:embed="rId2"/>
          <a:stretch/>
        </p:blipFill>
        <p:spPr>
          <a:xfrm>
            <a:off x="4640400" y="485640"/>
            <a:ext cx="4503600" cy="6372360"/>
          </a:xfrm>
          <a:prstGeom prst="rect">
            <a:avLst/>
          </a:prstGeom>
          <a:ln w="0">
            <a:noFill/>
          </a:ln>
        </p:spPr>
      </p:pic>
      <p:sp>
        <p:nvSpPr>
          <p:cNvPr id="111" name="AutoShape 9"/>
          <p:cNvSpPr/>
          <p:nvPr/>
        </p:nvSpPr>
        <p:spPr>
          <a:xfrm>
            <a:off x="380880" y="2743200"/>
            <a:ext cx="3200400" cy="1981080"/>
          </a:xfrm>
          <a:prstGeom prst="wedgeEllipseCallout">
            <a:avLst>
              <a:gd name="adj1" fmla="val 24902"/>
              <a:gd name="adj2" fmla="val -1022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This is the last territorial claim I have to make in Europ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1"/>
          <p:cNvSpPr/>
          <p:nvPr/>
        </p:nvSpPr>
        <p:spPr>
          <a:xfrm>
            <a:off x="5486400" y="0"/>
            <a:ext cx="2819520" cy="1219320"/>
          </a:xfrm>
          <a:prstGeom prst="cloudCallout">
            <a:avLst>
              <a:gd name="adj1" fmla="val 21847"/>
              <a:gd name="adj2" fmla="val 7018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He totally bought i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p294fig1"/>
          <p:cNvPicPr/>
          <p:nvPr/>
        </p:nvPicPr>
        <p:blipFill>
          <a:blip r:embed="rId1"/>
          <a:stretch/>
        </p:blipFill>
        <p:spPr>
          <a:xfrm>
            <a:off x="533520" y="-60480"/>
            <a:ext cx="8076960" cy="6918480"/>
          </a:xfrm>
          <a:prstGeom prst="rect">
            <a:avLst/>
          </a:prstGeom>
          <a:ln w="0">
            <a:noFill/>
          </a:ln>
        </p:spPr>
      </p:pic>
      <p:sp>
        <p:nvSpPr>
          <p:cNvPr id="116" name="WordArt 5"/>
          <p:cNvSpPr txBox="1"/>
          <p:nvPr/>
        </p:nvSpPr>
        <p:spPr>
          <a:xfrm>
            <a:off x="762120" y="3505320"/>
            <a:ext cx="7667640" cy="30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"Peace in our time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File:Munchen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571356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6"/>
          <p:cNvSpPr/>
          <p:nvPr/>
        </p:nvSpPr>
        <p:spPr>
          <a:xfrm>
            <a:off x="3200400" y="4693680"/>
            <a:ext cx="594360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howcard Gothic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Showcard Gothic"/>
              </a:rPr>
              <a:t>The enemy did not expect my great determination….Our enemies are little worms, I saw them at Munich…Now Poland is in the position I wante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wcard 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wcard 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wcard 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wcard 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wcard Gothic"/>
              </a:rPr>
              <a:t>A. Hit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GERhitlergeorges"/>
          <p:cNvPicPr/>
          <p:nvPr/>
        </p:nvPicPr>
        <p:blipFill>
          <a:blip r:embed="rId1"/>
          <a:stretch/>
        </p:blipFill>
        <p:spPr>
          <a:xfrm>
            <a:off x="1981080" y="0"/>
            <a:ext cx="522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WWII%20Appeasement%20Political%20Cartoon%2008"/>
          <p:cNvPicPr/>
          <p:nvPr/>
        </p:nvPicPr>
        <p:blipFill>
          <a:blip r:embed="rId1"/>
          <a:stretch/>
        </p:blipFill>
        <p:spPr>
          <a:xfrm>
            <a:off x="1981080" y="0"/>
            <a:ext cx="5334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appeaser"/>
          <p:cNvPicPr/>
          <p:nvPr/>
        </p:nvPicPr>
        <p:blipFill>
          <a:blip r:embed="rId1"/>
          <a:stretch/>
        </p:blipFill>
        <p:spPr>
          <a:xfrm>
            <a:off x="2209680" y="0"/>
            <a:ext cx="4896000" cy="70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Roadto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seuss"/>
          <p:cNvPicPr/>
          <p:nvPr/>
        </p:nvPicPr>
        <p:blipFill>
          <a:blip r:embed="rId1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suessappease"/>
          <p:cNvPicPr/>
          <p:nvPr/>
        </p:nvPicPr>
        <p:blipFill>
          <a:blip r:embed="rId1"/>
          <a:stretch/>
        </p:blipFill>
        <p:spPr>
          <a:xfrm>
            <a:off x="914400" y="0"/>
            <a:ext cx="7162920" cy="695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alifornian FB"/>
              </a:rPr>
              <a:t>Ch. 27.1:  The Diplomacy of the New Era</a:t>
            </a: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Californian FB"/>
              </a:rPr>
              <a:t>Pacifism/Disarmamen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75"/>
              </a:spcBef>
              <a:buClr>
                <a:srgbClr val="333399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Footlight MT Light"/>
              </a:rPr>
              <a:t>London Conference (193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U.S., Europe, Japan reached further agreement on naval disarmament, but G.B. + France insisted on many loopho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75"/>
              </a:spcBef>
              <a:buClr>
                <a:srgbClr val="000099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99"/>
                </a:solidFill>
                <a:latin typeface="Footlight MT Light"/>
              </a:rPr>
              <a:t>World Disarmament Conference (193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Yet another effort at disarmament, although it fail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75"/>
              </a:spcBef>
              <a:buClr>
                <a:srgbClr val="000099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99"/>
                </a:solidFill>
                <a:latin typeface="Footlight MT Light"/>
              </a:rPr>
              <a:t>Kellogg-Briand Pact (192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More than 50 nations signed this agreement, which “outlawed” “the aggressive use of force to achieve national ends.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Was ineffective, b/c it 1) permitted defensive wars, and 2) had no provision for enforcing against offend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75"/>
              </a:spcBef>
              <a:buClr>
                <a:srgbClr val="000099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99"/>
                </a:solidFill>
                <a:latin typeface="Footlight MT Light"/>
              </a:rPr>
              <a:t>Dawes Plan (192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U.S. gave $ to Germany.  Germany gave $ to Britain/France.  B/F paid back $ to U.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smallmaw"/>
          <p:cNvPicPr/>
          <p:nvPr/>
        </p:nvPicPr>
        <p:blipFill>
          <a:blip r:embed="rId1"/>
          <a:stretch/>
        </p:blipFill>
        <p:spPr>
          <a:xfrm>
            <a:off x="685800" y="-36360"/>
            <a:ext cx="7924680" cy="68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treed"/>
          <p:cNvPicPr/>
          <p:nvPr/>
        </p:nvPicPr>
        <p:blipFill>
          <a:blip r:embed="rId1"/>
          <a:stretch/>
        </p:blipFill>
        <p:spPr>
          <a:xfrm>
            <a:off x="1866960" y="0"/>
            <a:ext cx="564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ilw0084"/>
          <p:cNvPicPr/>
          <p:nvPr/>
        </p:nvPicPr>
        <p:blipFill>
          <a:blip r:embed="rId1"/>
          <a:stretch/>
        </p:blipFill>
        <p:spPr>
          <a:xfrm>
            <a:off x="1371600" y="0"/>
            <a:ext cx="6751800" cy="716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7" descr="flag_sun"/>
          <p:cNvPicPr/>
          <p:nvPr/>
        </p:nvPicPr>
        <p:blipFill>
          <a:blip r:embed="rId1"/>
          <a:stretch/>
        </p:blipFill>
        <p:spPr>
          <a:xfrm>
            <a:off x="5867280" y="0"/>
            <a:ext cx="3276720" cy="21337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-360" y="609480"/>
            <a:ext cx="853452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mplete isolation before WW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eft out of Versai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mperor – </a:t>
            </a:r>
            <a:r>
              <a:rPr b="0" lang="en-US" sz="2800" spc="-1" strike="noStrike">
                <a:solidFill>
                  <a:srgbClr val="ffff00"/>
                </a:solidFill>
                <a:latin typeface="Showcard Gothic"/>
              </a:rPr>
              <a:t>Hirohito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Arial Narrow"/>
              </a:rPr>
              <a:t>During G. Depression</a:t>
            </a:r>
            <a:r>
              <a:rPr b="1" i="1" lang="en-US" sz="2800" spc="-1" strike="noStrike">
                <a:solidFill>
                  <a:srgbClr val="ffff00"/>
                </a:solidFill>
                <a:latin typeface="Arial Narrow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Ultra -nationalist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forces take control (Toj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New Japanese emp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1931 – invasion of Manchu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2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 Narrow"/>
              </a:rPr>
              <a:t>nd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Sino - Japanese war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– ‘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Arial Narrow"/>
              </a:rPr>
              <a:t>As empire expands</a:t>
            </a:r>
            <a:r>
              <a:rPr b="1" i="1" lang="en-US" sz="2800" spc="-1" strike="noStrike">
                <a:solidFill>
                  <a:srgbClr val="ffff00"/>
                </a:solidFill>
                <a:latin typeface="Arial Narrow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Needs natural resources to fuel expa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ly on U.S.  (steel and oil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July ’41 – U.S. embar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utch East Indies…must neutralize U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Pacific Fleet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– Pearl Harb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howcard Gothic"/>
              </a:rPr>
              <a:t>The </a:t>
            </a:r>
            <a:r>
              <a:rPr b="1" lang="en-US" sz="4000" spc="-1" strike="noStrike">
                <a:solidFill>
                  <a:srgbClr val="ff0000"/>
                </a:solidFill>
                <a:latin typeface="Showcard Gothic"/>
              </a:rPr>
              <a:t>Empire of Japan</a:t>
            </a:r>
            <a:r>
              <a:rPr b="1" lang="en-US" sz="4000" spc="-1" strike="noStrike">
                <a:solidFill>
                  <a:srgbClr val="000000"/>
                </a:solidFill>
                <a:latin typeface="Showcard Gothic"/>
              </a:rPr>
              <a:t> (in brief)…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9" descr="EmperorHirohitoLarge"/>
          <p:cNvPicPr/>
          <p:nvPr/>
        </p:nvPicPr>
        <p:blipFill>
          <a:blip r:embed="rId2"/>
          <a:stretch/>
        </p:blipFill>
        <p:spPr>
          <a:xfrm>
            <a:off x="6629400" y="2286000"/>
            <a:ext cx="2514600" cy="21589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1" descr="Reagan-Hirohito%20Tokyo%20Nov%209%201983"/>
          <p:cNvPicPr/>
          <p:nvPr/>
        </p:nvPicPr>
        <p:blipFill>
          <a:blip r:embed="rId3"/>
          <a:stretch/>
        </p:blipFill>
        <p:spPr>
          <a:xfrm>
            <a:off x="7567560" y="4514760"/>
            <a:ext cx="157644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5" descr="hirohito2"/>
          <p:cNvPicPr/>
          <p:nvPr/>
        </p:nvPicPr>
        <p:blipFill>
          <a:blip r:embed="rId1"/>
          <a:stretch/>
        </p:blipFill>
        <p:spPr>
          <a:xfrm>
            <a:off x="3944880" y="0"/>
            <a:ext cx="519912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WordArt 6"/>
          <p:cNvSpPr txBox="1"/>
          <p:nvPr/>
        </p:nvSpPr>
        <p:spPr>
          <a:xfrm>
            <a:off x="304920" y="3048120"/>
            <a:ext cx="4733640" cy="328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Hirohit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pic35"/>
          <p:cNvPicPr/>
          <p:nvPr/>
        </p:nvPicPr>
        <p:blipFill>
          <a:blip r:embed="rId1"/>
          <a:stretch/>
        </p:blipFill>
        <p:spPr>
          <a:xfrm>
            <a:off x="4952880" y="685800"/>
            <a:ext cx="4191120" cy="61722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Hideki_Tojo_posing"/>
          <p:cNvPicPr/>
          <p:nvPr/>
        </p:nvPicPr>
        <p:blipFill>
          <a:blip r:embed="rId2"/>
          <a:stretch/>
        </p:blipFill>
        <p:spPr>
          <a:xfrm>
            <a:off x="0" y="0"/>
            <a:ext cx="4510080" cy="6324480"/>
          </a:xfrm>
          <a:prstGeom prst="rect">
            <a:avLst/>
          </a:prstGeom>
          <a:ln w="0">
            <a:noFill/>
          </a:ln>
        </p:spPr>
      </p:pic>
      <p:sp>
        <p:nvSpPr>
          <p:cNvPr id="155" name="WordArt 8"/>
          <p:cNvSpPr txBox="1"/>
          <p:nvPr/>
        </p:nvSpPr>
        <p:spPr>
          <a:xfrm>
            <a:off x="838080" y="3800520"/>
            <a:ext cx="6248520" cy="30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Hideki Tojo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5" descr="File:IJA troops enter Mukde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47920" y="0"/>
            <a:ext cx="651492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WordArt 6"/>
          <p:cNvSpPr txBox="1"/>
          <p:nvPr/>
        </p:nvSpPr>
        <p:spPr>
          <a:xfrm>
            <a:off x="380880" y="304920"/>
            <a:ext cx="84297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Invading Manchuria (Manachukuo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5" descr="china2-9650"/>
          <p:cNvPicPr/>
          <p:nvPr/>
        </p:nvPicPr>
        <p:blipFill>
          <a:blip r:embed="rId1"/>
          <a:stretch/>
        </p:blipFill>
        <p:spPr>
          <a:xfrm>
            <a:off x="0" y="0"/>
            <a:ext cx="2490840" cy="3276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61" name="Picture 9" descr="nanjingmassacre"/>
          <p:cNvPicPr/>
          <p:nvPr/>
        </p:nvPicPr>
        <p:blipFill>
          <a:blip r:embed="rId2"/>
          <a:stretch/>
        </p:blipFill>
        <p:spPr>
          <a:xfrm>
            <a:off x="6607080" y="3429000"/>
            <a:ext cx="2536920" cy="3429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62" name="Picture 13" descr="nanking_massacre"/>
          <p:cNvPicPr/>
          <p:nvPr/>
        </p:nvPicPr>
        <p:blipFill>
          <a:blip r:embed="rId3"/>
          <a:stretch/>
        </p:blipFill>
        <p:spPr>
          <a:xfrm>
            <a:off x="2625840" y="1828800"/>
            <a:ext cx="3822480" cy="42004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63" name="WordArt 14"/>
          <p:cNvSpPr txBox="1"/>
          <p:nvPr/>
        </p:nvSpPr>
        <p:spPr>
          <a:xfrm>
            <a:off x="1143000" y="762120"/>
            <a:ext cx="655308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Nanking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alifornian FB"/>
              </a:rPr>
              <a:t>Ch. 27.1:  The Diplomacy of the New Era</a:t>
            </a: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Californian FB"/>
              </a:rPr>
              <a:t>Japanese Aggress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ootlight MT Light"/>
              </a:rPr>
              <a:t>Japanese Invasion of Manchuria (193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Reason?  </a:t>
            </a:r>
            <a:r>
              <a:rPr b="0" i="1" lang="en-US" sz="2800" spc="-1" strike="noStrike">
                <a:solidFill>
                  <a:srgbClr val="000000"/>
                </a:solidFill>
                <a:latin typeface="Footlight MT Light"/>
              </a:rPr>
              <a:t>Significance</a:t>
            </a: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Sec. of State Henry Stimson’s Respons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952880" y="1600200"/>
            <a:ext cx="3962520" cy="33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Footlight MT Light"/>
              </a:rPr>
              <a:t>Ch. 27.2:  Isolationism and Internationalism</a:t>
            </a: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Footlight MT Light"/>
              </a:rPr>
              <a:t>U.S.S.R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America and the Soviet U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Despite ideological/political differences, U.S. officially recognized the U.S.S.R. in 193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257800" y="2057400"/>
            <a:ext cx="285768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Footlight MT Ligh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Footlight MT Light"/>
              </a:rPr>
              <a:t>Ch. </a:t>
            </a:r>
            <a:r>
              <a:rPr b="0" lang="en-US" sz="3400" spc="-1" strike="noStrike">
                <a:solidFill>
                  <a:srgbClr val="000000"/>
                </a:solidFill>
                <a:latin typeface="Footlight MT Light"/>
              </a:rPr>
              <a:t>27.2:  Isolationism and Internationalism </a:t>
            </a: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Footlight MT Light"/>
              </a:rPr>
              <a:t>Good Neighbor Policy</a:t>
            </a:r>
            <a:br>
              <a:rPr sz="36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U.S. had a tradition of involvement in Latin Ame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roe Doctr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xican American W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sevelt Coroll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ba/Puerto R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xico (Pancho Vill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ew policy (“Good Neighbor”) meant that the U.S. would use economic means to bring about desired change – rather than military means like in the pa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 Nullification of Platt Amendment in Cu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029200" y="1600200"/>
            <a:ext cx="39369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Footlight MT Light"/>
              </a:rPr>
              <a:t>Ch. 27.2:  Isolationism and Internationalism</a:t>
            </a: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Footlight MT Light"/>
              </a:rPr>
              <a:t>Isolationis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Footlight MT Light"/>
              </a:rPr>
              <a:t>Reasons for Isolationism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Despite a supposed tradition of isolationism, the U.S. had largely been involved in world affairs since at least the late 1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Footlight MT Light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 c.  Wilsonian internationalists had attempted to apply democratic principles (i.e. self-determination, disarmament, etc.) to foreign poli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Failed disarmament conferences and ineffective L.O.N. led to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Nye Committe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867280" y="4952880"/>
            <a:ext cx="228600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Footlight MT Light"/>
              </a:rPr>
              <a:t>Ch. 27.2:  Isolationism and Internationalism</a:t>
            </a: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Footlight MT Light"/>
              </a:rPr>
              <a:t>American Neutralit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36680" y="1600200"/>
            <a:ext cx="3051000" cy="4191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581280" y="1600200"/>
            <a:ext cx="523872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Footlight MT Light"/>
              </a:rPr>
              <a:t>Ch. 27.2:  Isolationism and Internationalism</a:t>
            </a: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Footlight MT Light"/>
              </a:rPr>
              <a:t>American Neutralit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ootlight MT Light"/>
              </a:rPr>
              <a:t>The Neutrality Act of 1935 authorized the president to prohibit all arms shipments to forbid U.S. citizens to travel on the ships of belligerent n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ootlight MT Light"/>
              </a:rPr>
              <a:t>Prompted by Mussolini’s invasion of Ethiop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ootlight MT Light"/>
              </a:rPr>
              <a:t>The Neutrality Act of 1936 forbade the extension of loans and credits to belliger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ootlight MT Light"/>
              </a:rPr>
              <a:t>The Neutrality Act of 1937 forbade the shipment of arms to the opposing sides in the Spanish Civil War, but allowed cash-and-carry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ootlight MT Light"/>
              </a:rPr>
              <a:t>This will be revised in 1939 to allow Cash-and-Carry for weapons to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876920" y="1647720"/>
            <a:ext cx="411480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11:41:22Z</dcterms:created>
  <dc:creator>bhartley</dc:creator>
  <dc:description/>
  <dc:language>en-US</dc:language>
  <cp:lastModifiedBy>bhartley</cp:lastModifiedBy>
  <dcterms:modified xsi:type="dcterms:W3CDTF">2010-04-29T12:22:24Z</dcterms:modified>
  <cp:revision>7</cp:revision>
  <dc:subject/>
  <dc:title>The Diplomacy of the New Era Post-WWI Themes/Trends… - Pacifism - Anger Resentment - Economic Problems (1919-1920 + Great Depression)</dc:title>
</cp:coreProperties>
</file>